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34402"/>
        <c:axId val="64443083"/>
      </c:barChart>
      <c:catAx>
        <c:axId val="81234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43083"/>
        <c:crosses val="autoZero"/>
        <c:auto val="1"/>
        <c:lblAlgn val="ctr"/>
        <c:lblOffset val="100"/>
        <c:noMultiLvlLbl val="0"/>
      </c:catAx>
      <c:valAx>
        <c:axId val="64443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4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F5C-AE70-4FD3-8845-4AE6F51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8D5-0F0C-4FF2-99F6-5D0F9BD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762-2E57-411D-9EA7-6D30F4DA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826-45F2-46D6-9947-6860F25E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C03-03C7-4428-8D1E-C752DD5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4EF-961D-44F7-8660-FD68913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0BA-B6F5-47D0-8F4D-CBB267C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406-9662-4779-8187-2F8B7FE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66E-0667-4D3F-9F2B-72279FD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A41-9A2F-444A-A7AC-E79856F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C7D-B889-4BDF-8B1A-24C1E1E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C09-BA25-48B0-B6F1-A23BDD1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76FC-A51A-4455-99A8-1A7BF9D3E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